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0AC9-0EFA-48B9-88DD-8D9FDED73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5068-0115-44E7-A74B-5C52B975E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E2AF-6145-4880-B574-9F4F1B46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E56E-DD17-49EA-B67C-E4DD328C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169F-15D4-4420-96F9-13BA9436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D0EF-B663-4F42-BCBB-1E63809C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1699-5BD8-4F56-8389-81461788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695D-43AA-4688-A433-EE460D73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ACE1-73F4-41BF-B364-F9D8F847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20D9-7BF5-4A93-87DE-3A901455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242C-87C8-4299-8293-8B386AC8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5809-B47C-4BE9-86A3-1140B8CC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0563-50C5-488A-94F2-A3A9FBB1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3512-1769-416D-8B1C-46EB6399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906B-A5FD-4DBF-8B81-3D6EA1238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3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s believe in a single God, without shape or form, who is both the creator and ruler of the universe and who prescribes a moral law for humanity. Judaism is the oldest major monotheistic relig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ish people believe in the Torah, which was the whole of the laws given to the Israelites at Sin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believe they must follow God's laws which govern daily lif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23:24:05Z</dcterms:created>
  <dc:creator>Rebecca Sanders</dc:creator>
  <dc:description/>
  <dc:language>en-US</dc:language>
  <cp:lastModifiedBy>Rebecca Sanders</cp:lastModifiedBy>
  <dcterms:modified xsi:type="dcterms:W3CDTF">2011-11-02T23:24:26Z</dcterms:modified>
  <cp:revision>1</cp:revision>
  <dc:subject/>
  <dc:title>Slide 1</dc:title>
</cp:coreProperties>
</file>